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904F-9961-4264-BBCE-77869741C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0B03-5BBB-47EF-BA19-30EFE1D64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7D76-FE50-42FE-B4B6-42FC2EDA8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043D-5113-4C5B-9BB1-A5E901878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812-1445-4F51-BE40-0E16E5D8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40284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E4CD-16C3-4E4E-9762-8807C35D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40284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8800" y="40284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0F8-F6E3-4D99-B774-C8D28D80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4520" y="16002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920" y="16002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40284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4520" y="40284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920" y="40284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0C1-C622-4A4C-AFF8-BB261F44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2AF-0D7A-4203-8824-98F6DEBD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AB2-0BBC-4D9B-9E52-6BBD695A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DAD4-ACFE-4E68-A618-9E77D7A4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3A5-D392-4058-AC7C-A8E07E8B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201-3ECB-477A-99A6-AACD8831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40284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86B2-AC0F-4B19-9412-A96AE00D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0" y="40284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A2A-4FDC-419B-ADEE-10D163D8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40284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8387-5A1C-4ED1-A82A-58258C78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ad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4F20-FB30-4F01-9635-4A57EA533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228600" y="152280"/>
            <a:ext cx="8610480" cy="6553440"/>
          </a:xfrm>
          <a:prstGeom prst="rect">
            <a:avLst/>
          </a:prstGeom>
          <a:noFill/>
          <a:ln w="95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60000"/>
                </a:solidFill>
                <a:latin typeface="Arial"/>
              </a:rPr>
              <a:t>Safety for</a:t>
            </a:r>
            <a:br>
              <a:rPr sz="5400"/>
            </a:br>
            <a:r>
              <a:rPr b="1" lang="en-US" sz="5400" spc="-1" strike="noStrike">
                <a:solidFill>
                  <a:srgbClr val="d60000"/>
                </a:solidFill>
                <a:latin typeface="Arial"/>
              </a:rPr>
              <a:t>Health Science</a:t>
            </a:r>
            <a:br>
              <a:rPr sz="5400"/>
            </a:br>
            <a:r>
              <a:rPr b="1" lang="en-US" sz="5400" spc="-1" strike="noStrike">
                <a:solidFill>
                  <a:srgbClr val="d60000"/>
                </a:solidFill>
                <a:latin typeface="Arial"/>
              </a:rPr>
              <a:t>Stud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0000"/>
                </a:solidFill>
                <a:latin typeface="Arial"/>
              </a:rPr>
              <a:t>OSHA</a:t>
            </a:r>
            <a:br>
              <a:rPr sz="4000"/>
            </a:br>
            <a:r>
              <a:rPr b="1" lang="en-US" sz="2800" spc="-1" strike="noStrike">
                <a:solidFill>
                  <a:srgbClr val="e00000"/>
                </a:solidFill>
                <a:latin typeface="Arial"/>
              </a:rPr>
              <a:t>Occupational Safety &amp; Health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quires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ll substances must be labe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Labels must identif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physical &amp; health haz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precaution meas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PPE (Personal Protective Equipme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directions for using substance saf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storage and disposal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labels MAY NOT be rem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00"/>
                </a:solidFill>
                <a:latin typeface="Arial"/>
              </a:rPr>
              <a:t>MS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terial Safety Data Sheets (MSDS) provide detailed information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Product &amp; company ide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Ingredient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Hazard ide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First aid meas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Fire fighting meas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ccidental release meas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Handling &amp; stor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Exposure controls/ P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Stability &amp; re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00"/>
                </a:solidFill>
                <a:latin typeface="Arial"/>
              </a:rPr>
              <a:t>MS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mployees (students) must know the location of the MSDS and how to us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00"/>
                </a:solidFill>
                <a:latin typeface="Arial"/>
              </a:rPr>
              <a:t>The MSDS book in my classroom i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457200" y="3124080"/>
            <a:ext cx="1219320" cy="1219320"/>
          </a:xfrm>
          <a:prstGeom prst="irregularSeal2">
            <a:avLst/>
          </a:prstGeom>
          <a:solidFill>
            <a:srgbClr val="e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0000"/>
                </a:solidFill>
                <a:latin typeface="Arial"/>
              </a:rPr>
              <a:t>Standard (Universal) Precaution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to reduce the risk of exposure of skin or mucous membranes that could come in contact with materials that may contain blood-borne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0000"/>
                </a:solidFill>
                <a:latin typeface="Arial"/>
              </a:rPr>
              <a:t>MAY include protective barriers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ive eyew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0000"/>
                </a:solidFill>
                <a:latin typeface="Arial"/>
              </a:rPr>
              <a:t>What are Standard Precaution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0000"/>
                </a:solidFill>
                <a:latin typeface="Arial"/>
              </a:rPr>
              <a:t>Precautions that apply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or other body fluids containing bloo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ginal secre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3924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0000"/>
                </a:solidFill>
                <a:latin typeface="Arial"/>
              </a:rPr>
              <a:t>They do not apply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al secretions, spu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r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m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0000"/>
                </a:solidFill>
                <a:latin typeface="Arial"/>
              </a:rPr>
              <a:t>unless these contain visible blood or are likely to contain  blood</a:t>
            </a:r>
            <a:r>
              <a:rPr b="1" lang="en-US" sz="2400" spc="-1" strike="noStrike">
                <a:solidFill>
                  <a:srgbClr val="e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e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3520" y="57150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most facilities adopt the policy of using PPE when in contact with any of these body flu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380880" y="5105520"/>
            <a:ext cx="685800" cy="685800"/>
          </a:xfrm>
          <a:prstGeom prst="irregularSeal2">
            <a:avLst/>
          </a:prstGeom>
          <a:solidFill>
            <a:srgbClr val="e00000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0000"/>
                </a:solidFill>
                <a:latin typeface="Arial"/>
              </a:rPr>
              <a:t>Transmission Based Precau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quired, in addition to Standard Precautions, where airborne, droplet and contact transmission of infectious organisms may occ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n transmission based precautions inclu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and was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eaning &amp; sanitation of su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 flipV="1">
            <a:off x="2514600" y="460080"/>
            <a:ext cx="373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e00000"/>
                </a:solidFill>
                <a:latin typeface="Arial"/>
              </a:rPr>
              <a:t>FOUR WAYS TO SPREAD</a:t>
            </a:r>
            <a:r>
              <a:rPr b="0" lang="en-US" sz="3600" spc="-1" strike="noStrike">
                <a:solidFill>
                  <a:srgbClr val="e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e00000"/>
                </a:solidFill>
                <a:latin typeface="Arial"/>
              </a:rPr>
              <a:t>GERMS (Transmission of Germs)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irborne or respiratory 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.Direct contact 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Fecal-oral 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Blood contact 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0000"/>
                </a:solidFill>
                <a:latin typeface="Arial"/>
              </a:rPr>
              <a:t>STANDARD PRECAUTIONS: How to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and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ersonal Protective Equipment (P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anitiz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5.  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6.  Immu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00"/>
                </a:solidFill>
                <a:latin typeface="Arial"/>
              </a:rPr>
              <a:t>ADDITIONAL PP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392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p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ace sh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rgioi01v[1]"/>
          <p:cNvPicPr/>
          <p:nvPr/>
        </p:nvPicPr>
        <p:blipFill>
          <a:blip r:embed="rId1"/>
          <a:stretch/>
        </p:blipFill>
        <p:spPr>
          <a:xfrm>
            <a:off x="4681440" y="1835280"/>
            <a:ext cx="2387520" cy="34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0000"/>
                </a:solidFill>
                <a:latin typeface="Arial"/>
              </a:rPr>
              <a:t>Preventing Muscle &amp; Back Inju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sk for help when lifting or moving heavy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lways use large muscles when lifting or moving heavy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quat when lifting heavy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Keep objects close to your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00"/>
                </a:solidFill>
                <a:latin typeface="Arial"/>
              </a:rPr>
              <a:t>Classroom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5e89"/>
                </a:solidFill>
                <a:latin typeface="Arial"/>
              </a:rPr>
              <a:t>No running, climbing, or thr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5e89"/>
                </a:solidFill>
                <a:latin typeface="Arial"/>
              </a:rPr>
              <a:t>Keep bags and purses on shelf or under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5e89"/>
                </a:solidFill>
                <a:latin typeface="Arial"/>
              </a:rPr>
              <a:t>Keep your hands to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5e89"/>
                </a:solidFill>
                <a:latin typeface="Arial"/>
              </a:rPr>
              <a:t>Respect yourself and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00"/>
                </a:solidFill>
                <a:latin typeface="Arial"/>
              </a:rPr>
              <a:t>Safety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safety team, made of 6 students, will conduct an inspection each month, noting and reporting vio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00"/>
                </a:solidFill>
                <a:latin typeface="Arial"/>
              </a:rPr>
              <a:t>All students are responsible for reporting unsafe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457200" y="3581280"/>
            <a:ext cx="1219320" cy="1295640"/>
          </a:xfrm>
          <a:prstGeom prst="irregularSeal2">
            <a:avLst/>
          </a:prstGeom>
          <a:solidFill>
            <a:srgbClr val="e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00"/>
                </a:solidFill>
                <a:latin typeface="Arial"/>
              </a:rPr>
              <a:t>Lab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5e89"/>
                </a:solidFill>
                <a:latin typeface="Arial"/>
              </a:rPr>
              <a:t>Students may n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e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5e89"/>
                </a:solidFill>
                <a:latin typeface="Arial"/>
              </a:rPr>
              <a:t>be in lab without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e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5e89"/>
                </a:solidFill>
                <a:latin typeface="Arial"/>
              </a:rPr>
              <a:t>be in storage areas without per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e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5e89"/>
                </a:solidFill>
                <a:latin typeface="Arial"/>
              </a:rPr>
              <a:t>sit or lay on b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e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5e89"/>
                </a:solidFill>
                <a:latin typeface="Arial"/>
              </a:rPr>
              <a:t>use equipment without per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00"/>
                </a:solidFill>
                <a:latin typeface="Arial"/>
              </a:rPr>
              <a:t>Clinical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5e89"/>
                </a:solidFill>
                <a:latin typeface="Arial"/>
              </a:rPr>
              <a:t>Students must at all ti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e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5e89"/>
                </a:solidFill>
                <a:latin typeface="Arial"/>
              </a:rPr>
              <a:t>stay within assigned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e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5e89"/>
                </a:solidFill>
                <a:latin typeface="Arial"/>
              </a:rPr>
              <a:t>follow facility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e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5e89"/>
                </a:solidFill>
                <a:latin typeface="Arial"/>
              </a:rPr>
              <a:t>dress appropr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e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5e89"/>
                </a:solidFill>
                <a:latin typeface="Arial"/>
              </a:rPr>
              <a:t>act in a respectful, courteous man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e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5e89"/>
                </a:solidFill>
                <a:latin typeface="Arial"/>
              </a:rPr>
              <a:t>be ready to leave at the prop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0000"/>
                </a:solidFill>
                <a:latin typeface="Arial"/>
              </a:rPr>
              <a:t>work within your scope of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0000"/>
                </a:solidFill>
                <a:latin typeface="Arial"/>
              </a:rPr>
              <a:t>doing what you are qualified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00"/>
                </a:solidFill>
                <a:latin typeface="Arial"/>
              </a:rPr>
              <a:t>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lements of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eat (a spark or fl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0000"/>
                </a:solidFill>
                <a:latin typeface="Arial"/>
              </a:rPr>
              <a:t>One of these must be eliminated to extinguish a f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re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orage of flammabl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intenance of electrical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n smoking fac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00"/>
                </a:solidFill>
                <a:latin typeface="Arial"/>
              </a:rPr>
              <a:t>In Case of a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Know where extinguishers and emergency exit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member “R A C 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– resc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– al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– con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– extingui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00"/>
                </a:solidFill>
                <a:latin typeface="Arial"/>
              </a:rPr>
              <a:t>Fire Extinguis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our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 – wood, paper, cl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 – grease, 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 – electr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bo – all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ll fire extinguishers must be serviced yearly by a professional and checked monthly by the safety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00"/>
                </a:solidFill>
                <a:latin typeface="Arial"/>
              </a:rPr>
              <a:t>Using a Fire Extinguis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member the acronym “P A S 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 -- pull the 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-- aim the nozz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 -- squeeze the tri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 – sweep from side to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00"/>
                </a:solidFill>
                <a:latin typeface="Arial"/>
              </a:rPr>
              <a:t>Hazardous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 hazardous material is any substance that presents a physical or health haz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SHA requires that employees understand the risks and know how to handle hazardous substances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hysical hazards can cause fire or explosions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Health hazards can cause be acute (short) or chronic (long) term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3T21:56:31Z</dcterms:created>
  <dc:creator>teresa rogers</dc:creator>
  <dc:description/>
  <dc:language>en-US</dc:language>
  <cp:lastModifiedBy>Krista</cp:lastModifiedBy>
  <dcterms:modified xsi:type="dcterms:W3CDTF">2011-08-13T21:32:53Z</dcterms:modified>
  <cp:revision>6</cp:revision>
  <dc:subject/>
  <dc:title>Safety for Health Science Students</dc:title>
</cp:coreProperties>
</file>